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C1EA-DCF1-457E-B24F-9D55187F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038D-61D0-4756-9464-AB2ED579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F98B-0160-449D-8A56-03FC51C7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26B9-FACA-46C1-B9E9-BAA1643C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D37B-F16F-4B10-903C-81756117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9E65-8170-4C55-A36C-335D1EF8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8416-9DA7-4563-802D-8D7A95A7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AC41-D4AA-4565-A06A-6F746732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7224-4F88-4BCA-BBA8-75459842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D3E6-A890-4462-815A-7F096B7E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E5E0-4A24-42E0-BD28-6834EFA5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545A-1CD2-4E93-871B-0E701660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E8C3B-6256-4F5C-B78E-F68A9D56CF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87280" y="301680"/>
            <a:ext cx="7848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68720" y="619128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79640" y="247644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16080" y="3828960"/>
          <a:ext cx="9575640" cy="3600720"/>
        </p:xfrm>
        <a:graphic>
          <a:graphicData uri="http://schemas.openxmlformats.org/drawingml/2006/table">
            <a:tbl>
              <a:tblPr/>
              <a:tblGrid>
                <a:gridCol w="4582800"/>
                <a:gridCol w="49928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0360" y="115236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0360" y="4608360"/>
            <a:ext cx="381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665760" y="468000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792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7280" y="5111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6000" y="5759280"/>
          <a:ext cx="9774000" cy="1727280"/>
        </p:xfrm>
        <a:graphic>
          <a:graphicData uri="http://schemas.openxmlformats.org/drawingml/2006/table">
            <a:tbl>
              <a:tblPr/>
              <a:tblGrid>
                <a:gridCol w="4865760"/>
                <a:gridCol w="4908240"/>
              </a:tblGrid>
              <a:tr h="195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696000" y="460836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2360" y="863640"/>
            <a:ext cx="402588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44720" y="1076400"/>
            <a:ext cx="1944720" cy="302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9896" r="0" b="14843"/>
          <a:stretch/>
        </p:blipFill>
        <p:spPr>
          <a:xfrm>
            <a:off x="-25560" y="3618000"/>
            <a:ext cx="2602080" cy="167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385040" y="1871640"/>
            <a:ext cx="2478240" cy="25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319640" y="3745080"/>
            <a:ext cx="2376360" cy="15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3280" y="1305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0360" y="460836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6767640" y="4608360"/>
            <a:ext cx="3125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24360" y="4751280"/>
            <a:ext cx="1800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10120" y="1463760"/>
            <a:ext cx="40258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1640" y="4248000"/>
            <a:ext cx="1511640" cy="1944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16000" y="5543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5800" y="6269040"/>
          <a:ext cx="9576000" cy="1182600"/>
        </p:xfrm>
        <a:graphic>
          <a:graphicData uri="http://schemas.openxmlformats.org/drawingml/2006/table">
            <a:tbl>
              <a:tblPr/>
              <a:tblGrid>
                <a:gridCol w="4767480"/>
                <a:gridCol w="480852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способ представления  изображений, основанный на математическом описании элементарных геометрических объектов,  таких как: точки, линии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586480" y="5518080"/>
            <a:ext cx="3270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96000" y="5616720"/>
            <a:ext cx="1800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243920" y="4343400"/>
            <a:ext cx="2836800" cy="175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18:38:32Z</dcterms:created>
  <dc:creator/>
  <dc:description/>
  <dc:language>en-US</dc:language>
  <cp:lastModifiedBy/>
  <dcterms:modified xsi:type="dcterms:W3CDTF">2015-12-11T19:03:52Z</dcterms:modified>
  <cp:revision>14</cp:revision>
  <dc:subject/>
  <dc:title/>
</cp:coreProperties>
</file>