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CABF-B5D3-464C-8ECD-C8B4A832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A9C0-BE95-44ED-8632-72B57C98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57C65D-BCFE-4120-A376-035F0063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FE66B8-9D6F-4CDC-931C-F55B618A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C4B558-A6FE-4761-BF29-01533B87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0B0F74-A754-47CF-81BB-3DC23A5E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8AF6FF-451D-4199-BA85-2F6B1F4D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BF311E-5405-4397-8E15-A1F754EF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36DABA-E5EE-48A4-A34A-81EAB312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84B53A-56B6-473B-AB08-3DDDD40C6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A8E943-203D-49B3-81D7-8F46223A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C62CC7-F6D8-4547-A2DB-4599BF554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6120-CF40-4A51-B669-3FD61862B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B38A73-3738-4655-BE6C-54604383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20303E-90E9-4853-852F-956BCF26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8F9376-F5B6-4D2A-9AE8-24A53620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CFC1D5-878F-4246-911C-DA99230A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6FC642-F581-4A7E-BC3B-D5BC692E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80C803-A1BE-496F-968F-216FBACA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8CA865-EAF2-4801-B69F-FDFF2A8A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06812A-CE2D-44A4-8C90-1F638DD8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01C1D0-A240-432B-9AFA-BC790EFA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812402-071B-4DB9-8712-2AA4922A6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7622-74FA-4A93-93E4-8ADE48936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73203C-CD29-4EA4-A8C6-B83A7689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C6FC5-EADC-4050-B9B9-6A34F966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77E29-3F86-49EA-A090-E6504D51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CAD4C-833F-4666-A2AE-D659FAA2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AFF9A-AACB-46F6-B36F-89CF9D45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63EF1-EB7A-4D26-8719-C95A3B03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D068C-7720-4174-A8A4-6B9A3F5C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0CC15-41E9-4A53-B472-6FE814A5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9A257-4B83-426A-AD2F-386E82D4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71375-1579-4D75-BF01-73E4130A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72F3-4321-4B48-8F6F-8224D17D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391A3-2754-464A-A589-C12EA62D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FFF7F-A2A5-48C8-8B28-C36ED9BC8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BCB0A-FD3C-4879-B25A-C97D25DB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FB3DDD-9565-4131-A2AC-6A0FE9E9A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CFC7AE-4C31-4E6C-8FDF-D93A2CAD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760D5C-EF0B-4AFE-AE68-0F4626EC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5D1788-CBE0-4E2F-B399-B7DC7CC2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5B89BE-A39A-4C61-923D-53AE8C8D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F7AE07-0499-4F7D-AEE2-9530CD53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9F2A3F-71E0-4CA4-969C-7AFC0E25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51A5-095B-4088-9DCF-9D9905B2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325489-BCE3-480F-A38E-F67683B5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DD9D35-8295-45AC-A24D-95A93CF3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DD9EC0-D1C9-43FF-BCE2-1A69EFAA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1BFD32-7F26-4655-88D9-5DD1AAB90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F1EC5F-74B6-491D-902F-B67A270CB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1D20-6FAB-4BBE-A241-6685610E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49A9-BF22-47FB-8ED9-3297A401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F405-5701-4E4D-B0D1-558C17D1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B2B6-C9EE-4290-881D-AE03BFD4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4232-76ED-4B5F-8CB4-08ACB890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46F1-86BB-4EEB-875A-29583956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7034-4C5F-448C-BF67-E9795924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4B8E-F51D-4BED-A6B7-62B3CE67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8520-0F71-4196-B67B-D97F5DB4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EF08-861E-47D5-A576-A621475C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017D-2391-4889-8629-C96C8CA93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55ED0-3993-4695-9E3A-97BFCBE6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1EBED-AD5D-4CA7-B357-2CCFDF90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19976-505C-4BD7-BC2E-18453FD1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35CB7-0A0A-4607-B00F-970B0197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0CF51-9D5C-43BE-BA34-8087B931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6B6D-F789-4E15-AB21-FD47B941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70B74-68C3-4A42-991F-536DCE68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47776-7D68-45D7-B83F-D91989E8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42A80-8879-4058-8F3D-7C111A57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B26B0-9378-44BA-A645-EA64DBA3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9FE9D-A0D8-4E55-9CB1-1ADAB242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74615-B826-4D7A-A131-ACD9095F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9C994-046E-4185-AC1B-A0A3FF888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334D0-B0AD-433D-96BC-7FD2BFD7C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2E0DC-A633-4897-A8FF-DB59CD25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0621E-B003-4F3A-9D2A-A9935C69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51D3-F3C0-4699-ABCA-D74A896C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44E1D-B1F8-4437-863A-74791E53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984BC-F992-4AB4-8A79-EB4F511D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4F49D-A972-4786-A627-70B69650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07942-6827-4094-BB29-983BAA7D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01013-0DA1-4FB9-8CE4-CC755DEE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CF47D-BBB2-4990-AC8C-0A0C7552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AA141-DAA1-41F4-B736-ABCFFDB8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5594F-8917-4F0F-92BF-6A256F12A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04242-F168-47AE-B06A-4EA7EB1B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A9FB8-5AD1-4828-9390-896A1E09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C72D-7D66-4809-8352-853DF329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F955C-FF55-431F-9A4A-2F67ED8C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18F2B-9E7E-4984-B140-3DFEA801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AA4F7-EB39-4645-B6F0-3BF3DDEB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C2629-722A-4267-AB38-1AE5DA5D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3FD4E-C4D3-4FB3-ACD4-ACB1B744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FAB8F-B61F-46D2-82E0-E7693E42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4ACD2-E350-4512-A0A5-1548AAC2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F1E08-7593-4EC0-91A9-C02F65A3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35EA7-2776-423D-8AAA-2660A4CF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91A1E-8A1B-4997-978D-6091CA88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E3DD-9D72-47AD-809E-0C644A6C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34BC9-A973-4546-A5E0-2DA6A0957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BEC85-2C21-45B4-A04A-16724D7C4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F2464-7D9C-4AB5-A0CC-6F385465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41083-8129-44C9-B17A-438E14F9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FD776-6F6A-4163-AFA4-FB02D018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CB783-7ED9-4CE9-A59F-6FBC358E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5901B-4328-4DC0-8833-87B0C452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46B01-3CF4-4575-A185-23BE05E5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8DDB8-AA8C-426D-A1F9-1F491949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55E65-496E-42F5-93F2-9EDC2065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93D5-8CE8-430F-A4E1-42E1C29F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EFEB8-8C21-47F9-9304-7E79F19F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D209B-CD89-41EE-80EC-2B438D5C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3FDE0-9EB5-462A-AFAB-79EDBCFD1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17812-20C6-4362-923B-CE525A69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41EA4-BED6-471F-BA6D-0E8DC311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EB5B6-E449-48BC-A82C-81170BAC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CB6E0-2D5D-4D50-8FD0-56AB162F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677AB-BA75-4DCA-9E47-CE23BA31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A9BE2-3654-47B7-88E9-CAF5CE2C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191D3-1497-428B-ACC7-C7A90F84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3304-3F0E-486D-BAC8-61D1CB02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34351-E029-40F6-9E10-41959360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F598F-FCBA-4D8E-8590-867F191D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36A51-F648-44B5-965D-A92CE8C3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72B5C-2C6E-4F0A-9A2E-C54919E75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2FF2A-6D2C-4EDA-BF65-005F4A3A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686DF-4A44-42AF-9EBF-F70D244E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A87A0-9193-43AA-81D3-661B1B50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10907-3C90-4736-A560-6DA42DC1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3D776-FB82-4260-9F11-2B45F0FF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80B97-6B8E-4586-BD76-860D2BBA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C471-4173-4B5C-B198-4F478CDC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1E14E-C82E-48E1-B25B-7BFB8642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8C4DB-7018-48B9-899F-973B5E01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58600-75FC-4620-A255-16DE66DB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62E33-FEC2-409C-95D7-FB6B763B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5AE64-36F5-4763-A689-D0E485E9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E101F-CF21-42B2-8D43-80729C2C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743BB-A06E-46E9-9E01-4A7BB9B0A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9CFFA9-92DA-45FC-8BA0-AD9E0FC79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A805EF-43A9-4497-9387-7FF61A05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269BB1-BBD8-433A-A05B-FA497B6F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2609-5964-40BC-B579-440DB7316CB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7E82-3834-4695-A933-147453CE0D1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71A4-8324-40CD-A81A-4C32A202DA4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9E14-007B-435B-80C2-5F0C162C370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364D-BA67-4FCD-BA6D-3D7440813E2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79D5-D8FF-4905-A726-06379D1D0AB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0AC6-EA5E-4B58-A821-405E5EED626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B5C5-AB9B-4865-B776-FBC834F1454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A599-1A2B-4FDE-9C74-F597BF63B07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EA1F-FCF4-4CFE-A6E6-0274A7F357C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8426-AE68-4795-BB36-8F16CF33B371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EFD7-C34D-42BD-93A0-0B3A051DD08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3779640" y="4941720"/>
            <a:ext cx="457812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НЕЧИТАЙЛО И.Н., ПРОНЕР М.А. УЧИТЕЛЯ НАЧАЛЬНЫХ КЛАССОВ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1402920" y="2205000"/>
            <a:ext cx="705492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аспродажи, скидки. </a:t>
            </a:r>
            <a:br>
              <a:rPr sz="4200"/>
            </a:b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ешение задач.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Рисунок 4" descr="скидки.jpg"/>
          <p:cNvPicPr/>
          <p:nvPr/>
        </p:nvPicPr>
        <p:blipFill>
          <a:blip r:embed="rId1"/>
          <a:stretch/>
        </p:blipFill>
        <p:spPr>
          <a:xfrm>
            <a:off x="539640" y="476280"/>
            <a:ext cx="30956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395280" y="549360"/>
          <a:ext cx="8353440" cy="547200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400"/>
                <a:gridCol w="1670040"/>
                <a:gridCol w="1671480"/>
              </a:tblGrid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ы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 39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 5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ез скид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в руб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не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19T12:14:11Z</dcterms:created>
  <dc:creator>Дом</dc:creator>
  <dc:description/>
  <dc:language>en-US</dc:language>
  <cp:lastModifiedBy>User</cp:lastModifiedBy>
  <dcterms:modified xsi:type="dcterms:W3CDTF">2023-02-21T12:12:38Z</dcterms:modified>
  <cp:revision>19</cp:revision>
  <dc:subject/>
  <dc:title>Распродажи, скидки.  Решение задач.</dc:title>
</cp:coreProperties>
</file>